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2332-C5E7-4E66-9650-3EAE61F6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D4EA-02D4-48A0-A280-1430081E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A58E-4FFC-47B8-90B5-9D326AFE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7983-26E5-407B-B65A-E8C56796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D870-8380-4967-891F-DAF4DD1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42F3-3FAA-4020-9D9B-35278DEF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6EE3-7171-4A32-82DC-BAF5AA40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FA1B-16D4-4D78-8853-537CD2ED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813-194C-47D3-B5C2-8C4673D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2571-2BFE-4ABB-8379-7B74203B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DC10-59F1-489D-90D1-4E940C4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A45E-7F33-46E8-8803-38931DE0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DB3F-5647-437B-A890-7E376F8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65E7-6075-47B7-93F2-0042B1A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40BB-3663-49F2-BFDB-11E7F8A1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DE46-F569-431D-B79E-4699697C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F7DA-6B99-4C2B-9D83-3A914AD2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79A9-EE06-4FD5-825F-F606473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1BE4-E2CA-475C-9C5D-41A5DD8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A98A-B309-4319-AF0D-08475387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EB74-754B-4D80-AD57-2F2E5885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591B-D461-449A-A27D-1EFCB24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033A-2BA8-4F79-A274-2909B192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2E11-A44C-4748-8830-C1B68D7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295A-28E9-402C-882A-ACCD89D517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C549-060D-4254-8586-BFDF1F7AF7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                       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380880"/>
            <a:ext cx="618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Tahoma"/>
              </a:rPr>
              <a:t>Las Com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ahoma"/>
              </a:rPr>
              <a:t>By: Mary Peder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304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2860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55960" y="493560"/>
            <a:ext cx="344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 el desayuno me gusta com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2209680" cy="2057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838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Los hue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76220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28800" y="6095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1371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8640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aramond"/>
              </a:rPr>
              <a:t>El toc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352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29400" y="4114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Garamond"/>
              </a:rPr>
              <a:t>Las fru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0" y="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Para el amuzero me gusta com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962600"/>
            <a:ext cx="241920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44956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Garamond"/>
              </a:rPr>
              <a:t>El bocad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58000" y="609480"/>
            <a:ext cx="1895400" cy="2419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010280" y="3048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Garamond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3048120"/>
            <a:ext cx="10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Garamond"/>
              </a:rPr>
              <a:t>El ag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648480" y="50292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10080" y="5867280"/>
            <a:ext cx="1143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Garamond"/>
              </a:rPr>
              <a:t>La </a:t>
            </a:r>
            <a:r>
              <a:rPr b="0" lang="en-US" sz="2000" spc="-1" strike="noStrike">
                <a:solidFill>
                  <a:srgbClr val="33cc33"/>
                </a:solidFill>
                <a:latin typeface="Garamond"/>
              </a:rPr>
              <a:t>ensal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0" y="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ff33cc"/>
                </a:solidFill>
                <a:latin typeface="Garamond"/>
              </a:rPr>
              <a:t>Para la cena me gusta co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24800" y="1219320"/>
            <a:ext cx="2419200" cy="1885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Garamond"/>
              </a:rPr>
              <a:t>        </a:t>
            </a:r>
            <a:r>
              <a:rPr b="0" lang="en-US" sz="1800" spc="-1" strike="noStrike">
                <a:solidFill>
                  <a:srgbClr val="ffff66"/>
                </a:solidFill>
                <a:latin typeface="Garamond"/>
              </a:rPr>
              <a:t>La lim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5000760"/>
            <a:ext cx="2457360" cy="1857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993300"/>
                </a:solidFill>
                <a:latin typeface="Garamond"/>
              </a:rPr>
              <a:t>El bift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41911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Las pap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524640" y="5114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990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66ccff"/>
                </a:solidFill>
                <a:latin typeface="Garamond"/>
              </a:rPr>
              <a:t>El arr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7400" y="228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Par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a886e0"/>
                </a:solidFill>
                <a:latin typeface="Garamond"/>
              </a:rPr>
              <a:t>post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Garamond"/>
              </a:rPr>
              <a:t>m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gust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Garamond"/>
              </a:rPr>
              <a:t>co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 helado de vain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2629080" cy="173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4648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Garamond"/>
              </a:rPr>
              <a:t>Galleta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838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Garamond"/>
              </a:rPr>
              <a:t>Pastel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23335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8:55Z</dcterms:created>
  <dc:creator>pedersonmar</dc:creator>
  <dc:description/>
  <dc:language>en-US</dc:language>
  <cp:lastModifiedBy>pedersonmar</cp:lastModifiedBy>
  <dcterms:modified xsi:type="dcterms:W3CDTF">2012-04-04T18:08:54Z</dcterms:modified>
  <cp:revision>4</cp:revision>
  <dc:subject/>
  <dc:title>                         </dc:title>
</cp:coreProperties>
</file>